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Futura"/>
              </a:rPr>
              <a:t>Click to move the slide</a:t>
            </a: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31CF-C6B9-4789-BCD9-0D4BE5D5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20880" y="4349880"/>
            <a:ext cx="5016240" cy="410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ON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Img"/>
          </p:nvPr>
        </p:nvSpPr>
        <p:spPr>
          <a:xfrm>
            <a:off x="990720" y="571680"/>
            <a:ext cx="4876560" cy="3657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948-60AE-44CA-AE88-CC81E15B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EC3-A9D2-4767-A6BC-0CAD60B1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F5C-08B7-403A-AD3D-59107AE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3AA-74B7-4973-B956-89CCC7D5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B45-BA73-4A44-8B0B-081B9B64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0C6-3D87-47FA-BE9E-079B1BA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174-81D4-4463-BB4D-4BBD8FCF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44E-BB87-466B-B7BA-09B41CA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946-D627-4BB9-AB9E-3D03531C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8DE-0CCA-4349-9A3C-280D3D7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BF3-B07F-4380-BC46-E3D6B952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E54-9D24-44D8-A3F1-0F8D4BBB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Futura"/>
              </a:rPr>
              <a:t>Click to edit the title text format</a:t>
            </a: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Futura"/>
              </a:rPr>
              <a:t>Click to edit the title text format</a:t>
            </a:r>
            <a:endParaRPr b="0" lang="en-US" sz="2800" spc="-1" strike="noStrike">
              <a:solidFill>
                <a:srgbClr val="ffcc66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6F8-2C5A-4BAA-A7B9-12631F597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5480" y="1000080"/>
            <a:ext cx="2540160" cy="542916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2920" y="1000080"/>
            <a:ext cx="4935600" cy="542916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35440" y="2308320"/>
            <a:ext cx="0" cy="3786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1960" y="1951200"/>
            <a:ext cx="0" cy="3929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7360" y="2000160"/>
            <a:ext cx="0" cy="414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86680" y="4319640"/>
            <a:ext cx="199548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STAFF O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MGMT COUNCIL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5257800"/>
            <a:ext cx="1995480" cy="9090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180 MGMT EVAL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buClr>
                <a:srgbClr val="ffff00"/>
              </a:buClr>
              <a:buFont typeface="Futur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300" spc="-1" strike="noStrike">
                <a:solidFill>
                  <a:srgbClr val="ffff00"/>
                </a:solidFill>
                <a:latin typeface="Futura"/>
              </a:rPr>
              <a:t>PEER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buClr>
                <a:srgbClr val="ffff00"/>
              </a:buClr>
              <a:buFont typeface="Futur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300" spc="-1" strike="noStrike">
                <a:solidFill>
                  <a:srgbClr val="ffff00"/>
                </a:solidFill>
                <a:latin typeface="Futura"/>
              </a:rPr>
              <a:t>CUSTOMER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buClr>
                <a:srgbClr val="ffff00"/>
              </a:buClr>
              <a:buFont typeface="Futur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300" spc="-1" strike="noStrike">
                <a:solidFill>
                  <a:srgbClr val="ffff00"/>
                </a:solidFill>
                <a:latin typeface="Futura"/>
              </a:rPr>
              <a:t>STAF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72080" y="5653080"/>
            <a:ext cx="192384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STAFF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LEVEL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0960" y="2982960"/>
            <a:ext cx="215244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TITLE &amp; JO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CHANG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6680" y="1752480"/>
            <a:ext cx="1995480" cy="3150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NO LAYOFF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2400" y="1731960"/>
            <a:ext cx="2152800" cy="3150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“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RESPECT”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72080" y="4435560"/>
            <a:ext cx="1923840" cy="7714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SIMPLIFY POLICI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Wingdings 3"/>
                <a:ea typeface="Wingdings 3"/>
              </a:rPr>
              <a:t>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AUTONOM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2080" y="1752480"/>
            <a:ext cx="192384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KILL NEGATIV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LANGUAG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86680" y="3381480"/>
            <a:ext cx="199548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REDUCE MGMT BARRIER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0960" y="5727600"/>
            <a:ext cx="215244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Wingdings 3"/>
                <a:ea typeface="Wingdings 3"/>
              </a:rPr>
              <a:t>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VALUED RECOGNI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86680" y="2443320"/>
            <a:ext cx="199548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RETENTIO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PROGRAM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72080" y="2970360"/>
            <a:ext cx="1923840" cy="7714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ATTITU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RESEARCH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“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FIND &amp; FIX”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0960" y="4729320"/>
            <a:ext cx="2152440" cy="7714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DIG/JDI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INVOLVEMENT/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ACHIEVEME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0960" y="3732120"/>
            <a:ext cx="2152440" cy="7714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MULTIP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CHANNELS </a:t>
            </a:r>
            <a:r>
              <a:rPr b="0" lang="en-US" sz="1500" spc="-1" strike="noStrike">
                <a:solidFill>
                  <a:srgbClr val="ffff00"/>
                </a:solidFill>
                <a:latin typeface="Wingdings 3"/>
                <a:ea typeface="Wingdings 3"/>
              </a:rPr>
              <a:t>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5120" y="2233440"/>
            <a:ext cx="2002320" cy="54324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Wingdings 3"/>
                <a:ea typeface="Wingdings 3"/>
              </a:rPr>
              <a:t>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SCREENING &amp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Futura"/>
              </a:rPr>
              <a:t>PANEL INTERVIEW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9000" y="304920"/>
            <a:ext cx="696600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Futura"/>
              </a:rPr>
              <a:t>STEPS TO BEST PEOPLE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7600" y="990720"/>
            <a:ext cx="2459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Futura"/>
              </a:rPr>
              <a:t>JOB CONTEN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500" spc="-1" strike="noStrike">
                <a:solidFill>
                  <a:srgbClr val="000066"/>
                </a:solidFill>
                <a:latin typeface="Futura"/>
              </a:rPr>
              <a:t>WHAT THEY EXPERIEN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37720" y="1011240"/>
            <a:ext cx="31453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Futura"/>
              </a:rPr>
              <a:t>JOB CONTEX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500" spc="-1" strike="noStrike">
                <a:solidFill>
                  <a:srgbClr val="000066"/>
                </a:solidFill>
                <a:latin typeface="Futura"/>
              </a:rPr>
              <a:t>THE EXPERIENCE ENVIRONME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7800" y="380880"/>
            <a:ext cx="2629080" cy="533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480" y="1143000"/>
            <a:ext cx="800100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JFK.SHIP-A-WEIGH: SAVE 40% WITH THE JFK-SHIP-A-WEIGH PACKAGE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MASSAGE: ON-SITE CHAIR MASSAGE TO RELIEVE STRESS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NEW MOTHER ROOM - PRIVATE FURNISHED ROOM FOR LACTATIO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MEAL SUBSIDIES - </a:t>
            </a:r>
            <a:r>
              <a:rPr b="0" i="1" lang="en-US" sz="1600" spc="-1" strike="noStrike">
                <a:solidFill>
                  <a:srgbClr val="ffff00"/>
                </a:solidFill>
                <a:latin typeface="Futura"/>
              </a:rPr>
              <a:t>BECAUSE WE CARE</a:t>
            </a: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.  30% CAFETERIA DISCOUNT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ON-SITE ATM ON-SITE ATM MACHINE/NO FEE IN THE CAFETERIA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ON-SITE BANK - FIRST UNION - A FULL SERVICE BANK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ON-SITE CREDIT UNION - LOCATED NEAR THE PHARMACY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PARKING - FREE COVERED PARKING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POSTAGE STAMPS - STAMP MACHINE CONVENIENTLY LOCATED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ROVING FOOD CART - SNACK DELIVERY TO THE DEPARTMENTS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UNIFORM PURCHASE DISCOUNT - PURCHASE UNIFORMS AT COST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WELLNESS SCREENINGS - AT NO CHARGE TO EMPLOYEES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AUTO REPAIR: FREE PICK UP &amp; DELIVERY - 10% DISCOUNT FOR JFK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DRIVER'S LICENSE SERVICES - STATE OF FLORIDA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CARING MODEL - FIRST - </a:t>
            </a:r>
            <a:r>
              <a:rPr b="0" i="1" lang="en-US" sz="1600" spc="-1" strike="noStrike">
                <a:solidFill>
                  <a:srgbClr val="ffff00"/>
                </a:solidFill>
                <a:latin typeface="Futura"/>
              </a:rPr>
              <a:t>LOVE, CARE FOR AND RESPECT OURSELVES</a:t>
            </a: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CLINICAL LADDER - COMPENSATION FOR ADDITIONAL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utura"/>
              </a:rPr>
              <a:t>CONSERN LOANS: AFFORDABLE EDUCATION LOANS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41680" y="403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utura"/>
              </a:rPr>
              <a:t>HOME AWAY FROM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4:25:48Z</dcterms:created>
  <dc:creator>Kings College</dc:creator>
  <dc:description/>
  <dc:language>en-US</dc:language>
  <cp:lastModifiedBy>Clay Sherman</cp:lastModifiedBy>
  <dcterms:modified xsi:type="dcterms:W3CDTF">2005-03-11T19:09:47Z</dcterms:modified>
  <cp:revision>48</cp:revision>
  <dc:subject/>
  <dc:title>Chapter 6</dc:title>
</cp:coreProperties>
</file>